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1611-89B5-4C01-BE58-3AD3A0BF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B740-D4BB-4874-B123-C5624982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DE782-5C82-46AB-8403-06865957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1AFD4-ED86-49E6-A5DE-4DBEBEEF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784C0-9EE0-41D2-A765-1A365780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7ED55-A886-4550-9E62-59AD5121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B86AA-E25A-4082-A44C-5222BDBF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29B23-1A2B-4095-8D2B-CAA84FD6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D9A60-B135-4744-AD1D-70DE4667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A0E2C-BAB6-4A33-9E9F-E2E09467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C5E66-5255-4B59-8BD0-38A88222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473B-2400-4171-91EE-8EFBA1DC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C269-9752-41F4-AF82-45B7643C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1EE9-E05F-4090-95AF-B5645755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44DE-836B-4C3F-81F2-5C971C0D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31D8-A0B3-4BD7-9887-085C3A46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3718-402C-4951-92E8-2F24A72A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1A94-C713-4865-9870-40F5825E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38D-D32F-4DA0-A6E0-6B4783CE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F182-3604-4C3E-AF39-F2BE241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2575-4DAA-4A5C-AA0A-DE2EF10D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0862-9A07-400E-9403-2F73D4F3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A15A-554A-42F4-880C-B0ED9307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C0EB-A943-4A02-9992-BABA720D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FB1B-3286-4D70-ACA3-7262984D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0FE6-C06D-462E-9E61-A75F3F32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2A4C6-6FAB-4C0B-967E-66454C8D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C11F-CEA7-414B-98BC-E1AE17B8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A222F-CD45-4F31-963E-306ECE72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FFBA-A058-4A8A-AF4C-F66F9206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48DA-D0BD-47E5-B820-944823AD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C921-A66B-4D19-AB6E-5BFABD6E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2B666-190E-4EDF-B8FA-9C62ACB0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5B23-FF4C-47B1-AAB7-DB153FD1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FAD2-B4DF-4300-9AF0-71A394B1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CC6B7-5031-416F-BE6D-3EE70D77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B402-B92A-4011-9DBA-A98CBC8E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4ADE-B4BD-4F58-B13D-F86478F4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24758-0D4F-4052-B9CA-A6BB8963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76319B-CC5C-4600-8BB8-6ACEF064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628E0-B764-4E3A-8C85-1DB9F3C1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A2D12-6C3A-410F-BA18-BCC47094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CAA0-11FC-4C6B-B433-D035F6F6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DB0CC-A51F-45D0-A90E-CD52A459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7AF20-5142-4100-8AA2-41D1F623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6BFE2-18D3-4537-BA37-BB048055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512F0-C7F6-4431-B67B-629E2E25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46867-245A-4D59-8CD8-356971D8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42CC57-A3B1-43C6-B50B-80345A7A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11A39C-92F6-44E1-A879-A1F3902F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6911E-3C40-4DCD-9E13-7E985179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0241C-43B8-444D-A219-B3DEE730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01DB5-DC13-4142-9777-FB6DF105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D390-E277-4531-9BBA-0C81C14D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18476-324C-463F-9D29-98543C59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67343-B0D3-4DEC-A005-819E34DA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EA3E1-53D8-4909-84DF-DD8E193A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8C29A-6F57-45F9-91A0-EFAE6D62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197A0-ED30-4E07-81BB-317C4480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57544-E65E-466C-9DCA-2ADD4225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53C3D-738B-48EF-93AF-0DFDFF73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1B8CB-3EC4-40D2-8016-4891E93D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290E1-32EC-4F50-A907-21C53F11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05C5B-C499-4D51-9740-3DE1F922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2654-745B-4BFB-B71B-0C7923A2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1849-92F1-4038-BAE2-7716DA0D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FE9AF-8638-4465-86D5-2AE80D22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0D1F1-00F8-4CE5-BE57-2163AC51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99D01-83CD-4407-B603-76AEC7B6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28809-8BA3-456B-B427-FCFA59A7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3D0D2-4E4F-46F0-A38E-A48C058D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1DFDE-B7DC-430E-8038-55CC15C9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ED47-BBE2-4977-97F4-3D8E1E53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235E3-389E-487D-A24A-F8D24617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CD9EC-0792-4B72-AC2F-5D8B7368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B7EE-69C5-42C1-A9E6-DB19080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1AA5A-6770-433C-B6EE-34899276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E0DE7-25F2-447D-9DF2-CFC82019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3404A-7DEF-48CB-9989-D4069DD6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97F7-555E-41A1-882C-2A97D423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33FEA-013F-4981-8B22-49C2B454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8854F-35D9-4B62-BD83-8C845410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98E2D-1CF5-4947-8775-E05B9B70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DCD71-80AC-4A54-9A74-812BC119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B60FA-08D1-4302-99AA-B748A4E4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3C6E6-6422-4BDA-B018-B1E0C64B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FDF7-586F-4949-BC89-D9EFFC90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2C4BE-A7FC-4C31-94E1-8466753F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96B9D-740A-4972-93F0-6A689733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2B6D8-207A-4F93-9A3B-0AA8176B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6C3DA-3A78-468C-A019-9A1AEED7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AEE51-33AA-4644-BEE3-F9941D99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FDA99-79B4-47CE-B98F-1641893D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F8DC8-66C9-4DEE-8CEB-85BBD82E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7F6F5-E438-46FA-B23C-BC74B366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CDF41-79BB-48B5-ACCE-26644009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44FD3-6129-4387-A8E8-26972787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6802-9467-4663-8ACF-AB6FB552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0A1D2-3462-4AF0-BF4E-740C0AB6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C30A8-74A9-409F-857B-5AD8C133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6BF28-B1A1-4DFC-A438-4F7FE348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C1A4F-9887-4283-987A-6E5E2E62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E4769-B338-4874-92A2-42661AB8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B5352-D928-4FFF-8738-E0EC81AC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4C2CA-97FC-4A01-B38B-FF760245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A32E5-EF73-44BE-A2D2-6A7F36DB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6CED0-6276-4CAE-8328-6DAD2848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58366-E808-41A7-8353-F05A4F2B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A3D8-C987-4265-92B7-CC462DB5B8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331A-59F2-4FB7-BB10-068ADF32A0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E013-3F00-4BA9-B11C-D2B13CAA7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7FE7-D241-4292-A83E-FDA032F83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8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8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2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91B2-C234-4F53-B7C3-A2DB0BC9D2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7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58CE-98C8-4524-8C44-22448B3428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E4B5-1643-40BE-9438-04D020A88E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49FF-2C87-4605-84CE-2E4F1C91E2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2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2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43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E19F-FF5E-4A1E-8BFC-90B7114A76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www.kgv.net/psychology/Psychology%2520images/psychology%2520head.jpg&amp;imgrefurl=http://www.kgv.net/psychology/&amp;h=404&amp;w=316&amp;sz=23&amp;tbnid=uaVSGoJe11u_uM:&amp;tbnh=124&amp;tbnw=97&amp;prev=/images%3Fq%3Dpsychology,%2Bpicture%26um%3D1&amp;start=1&amp;sa=X&amp;oi=images&amp;ct=image&amp;cd=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2280" y="1736640"/>
            <a:ext cx="883944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ОЈАМ БОЛА У ОРОФАЦИЈАЛНОЈ РЕГИЈ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0" name="TextBox 5"/>
          <p:cNvSpPr/>
          <p:nvPr/>
        </p:nvSpPr>
        <p:spPr>
          <a:xfrm>
            <a:off x="1658160" y="685800"/>
            <a:ext cx="576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АКУЛТЕТ МЕДИЦИНСКИХ НА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НИВЕРЗИТЕТ У КРАГУЈЕВ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Picture 13" descr="memo grb copy"/>
          <p:cNvPicPr/>
          <p:nvPr/>
        </p:nvPicPr>
        <p:blipFill>
          <a:blip r:embed="rId1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722" name="TextBox 7"/>
          <p:cNvSpPr/>
          <p:nvPr/>
        </p:nvSpPr>
        <p:spPr>
          <a:xfrm>
            <a:off x="1295280" y="3581280"/>
            <a:ext cx="708660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ЦИЈАЛНИ БО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авање бр. 03</a:t>
            </a:r>
            <a:r>
              <a:rPr b="1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тске јединице: </a:t>
            </a:r>
            <a:r>
              <a:rPr b="1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ификација бола у орофацијалној регији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е дијагнозе б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и терапије бола орофацијалне региј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1523880" y="525780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Доц др Слободан Лончарев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c000"/>
                </a:solidFill>
                <a:latin typeface="Arial"/>
              </a:rPr>
              <a:t>Др Денис Брајков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И Б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647960" cy="5334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лобађање медиј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радикинин – бол, инфла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стагландини – хипералгезија, надражују ноцицепт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отонин – благ и краткотрајан 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стамин – свраб, 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ијати – периферна инфла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рвни фактор раста – инвазија инфламаторних ћелија, стимулише ослобађање хис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токини – фенотипске промене у неурон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7" descr="Neurotransmiter"/>
          <p:cNvPicPr/>
          <p:nvPr/>
        </p:nvPicPr>
        <p:blipFill>
          <a:blip r:embed="rId1"/>
          <a:stretch/>
        </p:blipFill>
        <p:spPr>
          <a:xfrm>
            <a:off x="228600" y="1295280"/>
            <a:ext cx="3686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И Б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 БОЛ – ОРГАНСКА ОС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 БОЛ – ПСИХОЛОШКА ОС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 БОЛНИ СИНДРОМИ КЛАСИФИКОВАНИ У ПОДГР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ИЗАЦИЈА БОЛА-РЕГИОН ТЕЛА ЗАХВАЋЕН БО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ХВАЋЕНИ БО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СКА КАРАКТЕРИСТИКА Б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ЗИТЕТ И ТРАЈАЊЕ СИМПТО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 И УЗРОК Б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7" descr="Vincent_Willem_van_Gogh_002"/>
          <p:cNvPicPr/>
          <p:nvPr/>
        </p:nvPicPr>
        <p:blipFill>
          <a:blip r:embed="rId1"/>
          <a:stretch/>
        </p:blipFill>
        <p:spPr>
          <a:xfrm>
            <a:off x="5079960" y="1295280"/>
            <a:ext cx="3835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ШКИ АСПЕКТ БОЛА ОДРЕЂУЈЕ СЕ ПУТЕМ МИНЕСОТИНОГ ВИШЕФАЗНОГ ОДРЕЂИВАЊА ЛИЧНОСТИ (ММП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 ТИПИЗИРАНИ У ГРУП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ИВНА ГРУ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ХОНДРИЈАЛНА ГРУ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ЕРИЧНА ГРУ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СУ ГРАДИРАНИ НА СКАЛИ ОД “0” ДО “5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” СИМПТОМ НЕ ПОСТО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” ЕКСТРЕМНО ИЗРАЖЕН СИМП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ТКРИВАЊЕ УЗРОКА И ОДРЕЂИВАЊЕ ТАРПИЈЕ МУЛТИДИСЦИПЛИНАРАН ПРИСТ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И Б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РОФАЦИЈАЛНИ БО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 може настати само у оним структурама главе које имај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вршетке нерава који региструју болни надражај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сти, меке мождане овојнице и само ткиво мозга немај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гућност сигнализације осећаја бола, остале структуре које укључују кожу и поткожно ткиво, мишиће и њихове овојнице, периост, зуби, очи, слузокожа носне и усне шупљине, синуси, велике артерије и вене, венски синуси, делови тврде мождане овојнице, сензитивни мождани нерви и припадајући ганглиони имају могућност сигнализације осећаја бола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ОРОФАЦИЈАЛНИ БО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цијални бол погађа милионе људи у свету свакоднев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ља осећај нелагодности или бола у подручју лица, уста, носа, ушију, очију, врата и глав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ета многе важне функције - дисање и осећај мириса, укуса, вид, жвакање, гутање и комуникацију (вербалну и невербалну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Постављање дијагноз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ци добијени од болес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ци добијени из питања испитива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ци добијени из упитника о бол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имање анамнезе- постављање хипотезе о каквој се врсти бола ради и шта му је узр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тке манифестације уобичајених болести, пуно су чешће него уобичајене презентације ретких болести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e5ff"/>
                </a:solidFill>
                <a:uFillTx/>
                <a:latin typeface="Arial"/>
              </a:rPr>
              <a:t>Узимање анамнестичких података о болу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нак, постоји ли податак о трауми -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ада и како се бол јављ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ација -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де је бол локализован на површини/дубљ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чина -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лико је бол јак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истике -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пишите бол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нска дистрибуција -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лико бол трај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оненета нелагодности -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лико је неугодан бол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дружени симптоми -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есаница, трњење, моторички или сензорни испад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шки фактори -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стоји ли анксизност/депресија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и који бол појачавају -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Шта погоршава бол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и који бол ублажавају -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Шта умањује бол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ицај на свакодневно функционисање -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а ли и колико болесник функционише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 на терапију -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акав је био утицај лекова до сада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ике -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ушење, алкохол, психоактивна средства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 се болесник носи с болом -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ако се носите с болом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ДИЈАГНОЗА ОРОФАЦИЈАЛНОГ БОЛ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аљан неуролошки прегле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тирање бола и сензорних поремећа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физиолошки прегле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ЕМНГ, ноцицептивни рефлекси, микронеурографија, БЛИНК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е сликовног приказа- ЦТ, МР, П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Процена бол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ација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истике бол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нски распон бол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и који утичу на бол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нзитет бол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ење интензитета бол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зуелне аналогне скале, нумеричке скале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с бол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ење пре терапије и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60 мин након оралне тх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20мин након интравенске тх,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-30 мин након субкутане тх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6" name="Picture 9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8229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Фактори од којих зависи перцепција бола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Телесн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тик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есна тежина; дебљина кож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биолошки фактор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а стимулациј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Психолошк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ксиознос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ресиј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штине суочавањ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Културолошки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расуд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лна појава код жен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лекари им не верују да је бол стваран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e5ff"/>
                </a:solidFill>
                <a:uFillTx/>
                <a:latin typeface="Arial"/>
              </a:rPr>
              <a:t>БО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 је неугодно сензоричко и емоционал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уство повезано с актуелним или потенцијални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м ткив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ћај бола је једна од виталних функција нервно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који упозорава организам на потенцијалн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д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Полне разлике у перцепцији бол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: - нижи праг бол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ављајући, интензивнији и дуготрајнији бо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времено мултипла болна стањ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е у преваленцији одређених хроничних болних стањ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шће код жена – мигрена, фибромиалгија, бол у ТМЗ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иритабилног црије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шкарци  – чешће кластер главобољ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у полним хормонима моделирају перцепцију бол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роген супримира стресом индуковану аналгезију код же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ње у старијим годинам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Хронични болни синдроми у орофацијалној региј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Главобољ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Миофасцијални бо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Тепоромандибуларни болни синд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Кранијалне неуралг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Атипични фацијални бо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Секундарна болна ст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Главобоље које се могу манифест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в</a:t>
            </a:r>
            <a:r>
              <a:rPr b="0" lang="hr-HR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ати орофацијалн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hr-HR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 бол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м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30592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гр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нзи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главобољ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астер главобољ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роксизимална хемикран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кундарне главобо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ИГРЕ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аки облик главобоље која се јавља у 16% популациј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:М=3: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је углавном цели живо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нетска предиспозиција (50-60% оболелих има родитеље који пате од мигрене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ично се јавља у 30-тим годинам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е се јавити у било које доба дана, али најчешће ујутро и траје 4-72 сата након тог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нилатерално се јавља у 60%, а увек на истој страни у 20% болесни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 је умјерен до јако интензив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има куцкајућу квалите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 се појачава покретима главе или физичком активношћу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ТЕНЗИ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Н</a:t>
            </a:r>
            <a:r>
              <a:rPr b="0" lang="sr-R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hr-HR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ГЛАВОБОЉ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п, непул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рајућ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л попут стезања и притиска (неки пацијенти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писују као осећај стиснутог завоја око главе или осећај као да носе уску капу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аги до умерени интензитет, у 90% случајева билатерална и типично захва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окципитално, паријетално, темпорално и фронтално подручј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једнако захва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оба по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ично траје 12 сати, али и од 30 минута до 72 с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авља се између 20-40 године живо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 тензи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 главобоље може довести и поремећај мишића жвакача (бруксизам или превисоки оклузални контак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ЛАСТЕР ГЛАВОБОЉ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cc00"/>
                </a:solidFill>
                <a:uFillTx/>
                <a:latin typeface="Arial"/>
              </a:rPr>
              <a:t>Интернационално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Удружење</a:t>
            </a:r>
            <a:r>
              <a:rPr b="0" lang="hr-HR" sz="2800" spc="-1" strike="noStrike" u="sng">
                <a:solidFill>
                  <a:srgbClr val="ffcc00"/>
                </a:solidFill>
                <a:uFillTx/>
                <a:latin typeface="Arial"/>
              </a:rPr>
              <a:t> за Испитивање Бол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а</a:t>
            </a:r>
            <a:r>
              <a:rPr b="0" lang="hr-HR" sz="28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нилатерални, неописиво јаки напади бол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оји се углавном јављају у орбиталном, фронталном или темпоралном подручју заједно са истостраним сузењем ока, упалом коњунктиве, фотофобијом, конгестијом носа или ринореј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јагноз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ма специфичних тестова, али се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ваког болесника треба направити ККС, СЕ, уреа, електролити и тестови функције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јетр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hr-HR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анзони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је нашао у 40% болесника полипозу параназалних синуса (па је потребан радиолошки налаз, боље МР него ЦТ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ПОСТОЈИ ПЕТ ТИПОВА МИШИЋН</a:t>
            </a:r>
            <a:r>
              <a:rPr b="1" lang="en-US" sz="28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ОГ</a:t>
            </a:r>
            <a:r>
              <a:rPr b="1" lang="hr-HR" sz="28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 БОЛ</a:t>
            </a: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Заштитна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контракци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локалн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и</a:t>
            </a:r>
            <a:r>
              <a:rPr b="1" lang="hr-HR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мишићн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и</a:t>
            </a:r>
            <a:r>
              <a:rPr b="1" lang="hr-HR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б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миофасцијалн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и</a:t>
            </a:r>
            <a:r>
              <a:rPr b="1" lang="hr-HR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бол (бол тригер т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</a:t>
            </a:r>
            <a:r>
              <a:rPr b="1" lang="hr-HR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чке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миоспаз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фибромијалгија.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5" descr="open-uri20121027-29438-hdbysh"/>
          <p:cNvPicPr/>
          <p:nvPr/>
        </p:nvPicPr>
        <p:blipFill>
          <a:blip r:embed="rId1"/>
          <a:stretch/>
        </p:blipFill>
        <p:spPr>
          <a:xfrm>
            <a:off x="4343400" y="2057400"/>
            <a:ext cx="441972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ШТИТНА КОНТРАКЦИЈ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стаје нпр. након поста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љањ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евисоке крунице, појачаног емоционалног стреса или било ко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ругог узрока који доводи до бол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и се осећа као мишићна слабост што је уједно и  кључни дијагностички знак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актеристично је да нема бол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ок мишић мирује, али његовом употребом долази до бол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ник често има ограничено отварање уста, али када полако отвара уста може их отворити до крај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штитна контракција је нормалан одговор средишњег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рвног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стем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не треба њу лечити него треба лечити њен узро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пр, ако је заштитна контракција настала услед нових круница или испуна тада се лечење темељи на њиховом прилагођавању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о је узрок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де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кива тада се болеснику саветује да ограничи покрете мандибуле до кад не почиње бо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ницима се препоручају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хран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ком храном и нестероидни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инфламаторни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налгетици као и вежбе мишића и други начини физикалне терапије. Поремећај престаје за пар да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ЛОКАЛН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hr-HR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МИШИЋН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hr-HR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БО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 јавља након продужене контракције, локалне трауме или претеране употребе мишић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аје не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сна о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очетно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зво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л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пр. медијални птеригоидни мишић је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ђен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ндибуларном 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естезијом и ова траума доводи до мишићн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л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Бол затим доводи до контракције и започиње циклус мишићн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л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Ткиво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ђено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њекцијом се опоравља и почетни узрок бол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је уклоњен, ипак болесник и даље има бол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калн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ишићн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л се клинички манифес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је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ао бол мишића приликом палпације заједно са повећањем интензитета бол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 њиховој функциј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да су захваћени подизачи мандибуле ограничено је отварање ус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разлику од заштитне контракције, болесник не може лако отворити уста још више и изражена је слабост мишић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ИОФАСЦИЈАЛНИ БОЛ </a:t>
            </a:r>
            <a:br>
              <a:rPr sz="2400"/>
            </a:b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МИЈАЛГИЈА ТРИГЕР ТАЧКЕ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јасне етиологије, али је доста често стањ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актери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е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окалним подручјима тврдих, хиперсензитивних делова мишићног ткива познатима као тригер т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кам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игер т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ке су узрок сталн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убок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л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могу узроковати централне ексцитаторне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дражаје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оји дају бол (најчешће главобоља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пр. болесник болује од миофасцијалн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л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ригер т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ке у мишићу трапезијусу и има једину манифестацију у виду  главобоље у подручју слепоoчнице. Све ово збуњује и болесника и клиничара јер болесник не осећа тригер т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ку као болно мест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игер т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ка се може налазити у активном или латентном стању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о је активна долази до главобоље те се палпацијом активне тригер т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ке појачава главобоља и то је од дијагностичке важност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да су тригер т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ке латентне, не могу се осетити палпацијо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игер т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ке се активирају претераном употребом мишића, напетошћу мишића, емоционалним стресом или чак инфекцијом горњих ди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ј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х путева. Ово стање је врло учестало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лесника који се жале на регуларне главобоље у каснијим поподневним сатима након заморног и стресног дан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КЛАСИФИКАЦИЈА БОЛ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емен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нич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зр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ге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сто настан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, врат, леђа ит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тофизиолог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цицептив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ноцицептив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еуропатск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Секундарне главобоље могу бити последиц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Болести у подручју костију лица, очију, ушију, носа, грл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Промене у притиску цереброспиналног ликв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Идиопатске интракранијалне хипертензиј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Интракранијалне хипотензије узроковане истицањем ликв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Системске инфекције (борелиоза, туберкулоза, менингитис, ХИВ-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uman immunodeficiency viru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Опструктивне апнеe у сну (нпр код хабитуалног хркањ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Претерана конзумација кофеи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Темпоралног артеритиса код старијих болесник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Трауме глав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ЛЕЧИ СЕ УЗРОК ГЛАВОБОЉЕ НАКОН ЧЕГА БОЛ НЕСТАЈЕ</a:t>
            </a: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 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РАНИЈАЛНЕ НЕУРАЛГИЈ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динствена група неуролошких болести које захватају нерве главе и врата, а обележене су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краткотрајним испадима пробадајућег бола слич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лектричном шоку дуж захваћеног нер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тригер-зонама на кожи или слузокожи које на доди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тенцирају болне напад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) интервалима без бола између два напада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ракторним периодом непосредно нако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пада током којих се може подстакнути нов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па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ТРИГЕМИНАЛНА НЕУРАЛГИЈ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јчешћа кранијална неуралг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над 50 год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 млађих особа  – тумор, анеуризма ил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В малформација 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шће код жена и на десној страни ли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јчешће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2, V3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једна или обе гра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лована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1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5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латерално 5%, никада обе стране истовреме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јутру након буђења, ретко буди пацијента из с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ТРИГЕМИНАЛНА НЕУРАЛГИЈ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ИДИОПАТСКА – 90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СИМПТОМАТСКА – 10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ритисак крвног суда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обично a. cerebelli superior) на нер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Демијелинизација нерва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У ретким случајевима (мање од 3%), ТН је симптом мултипле склерозе, услед које долази до разарања мијелинске овојнице нерва. ТН је ретко први симптом МС, чешће се појављује у њеним узнапредовалим фазам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ритисак туморског ткива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на нерв (редак узрок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Механичко оштећење нерва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узроковано зубарским или хируршким захватима, траумом лица или инфекцијо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e5ff"/>
                </a:solidFill>
                <a:uFillTx/>
                <a:latin typeface="Arial"/>
              </a:rPr>
              <a:t>ТРИГЕМИНАЛАНА НЕУРАЛГИЈ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зрок настанка бола 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ПЕРИФЕРА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неуроваскуларна компресиј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ЦЕНТРАЛАН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хиперактивност ј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р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тригеминалног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рв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0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ТЕМПОРОМАНДИБУЛАРНИ БОЛ</a:t>
            </a:r>
            <a:r>
              <a:rPr b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мпоромадибуларни поремећаји дефини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у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е као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упа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рофацијалних поремећаја с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hr-HR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бол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м</a:t>
            </a:r>
            <a:r>
              <a:rPr b="0" lang="hr-HR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преаурикуларном подручју,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личним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зглобовима (ТМЗ-у) или жв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ћим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ишићима с ограничењима у распону и девијацијама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рета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оње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лице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е звуковима ТМЗ-а 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 жвакањ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МП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темпоромандибуларин бол)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је уверљиво најчешћ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л у орофацијалном подручју (</a:t>
            </a:r>
            <a:r>
              <a:rPr b="1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тотип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ничног болног синдрома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зроци ТМП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ума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лузија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убоки болни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ажај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рафункци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алне</a:t>
            </a:r>
            <a:r>
              <a:rPr b="1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ктивности 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лоше навике као што су жвакање жвакаће гуме, жвакање једном страном, стискање зуб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бруксизам)</a:t>
            </a:r>
            <a:r>
              <a:rPr b="1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сихолошки проблеми повезани с емоционалним стресом 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сихијатријски поремећај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ДРУГИ МОГУЋИ УЗРОЦИ ОРОФАЦИЈАЛН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Г</a:t>
            </a:r>
            <a:r>
              <a:rPr b="1" lang="hr-HR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БОЛ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 ПАРАНАЗАЛНИХ СИНУ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 СЛУЗ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ОЖЕ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О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 УХ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 ЗУБ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ЦИНОМСКИ БО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СКУЛАРНИ УЗРОЦ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НИЈАЛНИ АРТЕРИТИ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ОТИДИН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ПСИХОГЕН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lang="hr-HR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 ОРОФАЦИЈАЛН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И </a:t>
            </a:r>
            <a:r>
              <a:rPr b="1" lang="hr-HR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БО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ИЗЛЕЧИВ Б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СИХОТИЧН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ОЛЕРАНЦИЈА ПРОТЕ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ЕМЕЋАЈ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СА И САЛИВ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 ФАНТОМСКОГ ЗАГРИ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8" name="Picture 4" descr="http://www.kgv.net/psychology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0020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СИСТЕМСКЕ БОЛЕСТИ И ОРОФАЦИЈАЛН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lang="hr-HR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БОЛ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ДИОВАСКУЛАРНИ 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ертензија, исхемијска болест ср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АЛНИ НЕРВНИ СИСТ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лтипла склероза, мијастенија грави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 ВЕЗИВНОГ ТКИ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, фибромијалгија, склеродерм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ДОКРИНЕ БОЛЕ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гликемија, хипергликемија, хипотиреоидиз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5"/>
          <p:cNvSpPr/>
          <p:nvPr/>
        </p:nvSpPr>
        <p:spPr>
          <a:xfrm>
            <a:off x="228600" y="2286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edare dolorem, divinum opus est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Умањити бол, божанско је дел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2" name="Picture 6" descr="mozak"/>
          <p:cNvPicPr/>
          <p:nvPr/>
        </p:nvPicPr>
        <p:blipFill>
          <a:blip r:embed="rId1"/>
          <a:stretch/>
        </p:blipFill>
        <p:spPr>
          <a:xfrm>
            <a:off x="2895480" y="1366920"/>
            <a:ext cx="624852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ВРСТЕ БОЛ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ема локализациј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шн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з коже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зокоже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убоки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з лигамената, мишића, зглобних капсула, тетива, периост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валитету (карактеру)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утн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л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брз, оштар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ро локализован и са истовременом стимулацијом рецептора за додир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бол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пор, жарећи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чно НИЈ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зан са масивним оштећењем ткива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окализацијо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1" name="Picture 5" descr="Bol"/>
          <p:cNvPicPr/>
          <p:nvPr/>
        </p:nvPicPr>
        <p:blipFill>
          <a:blip r:embed="rId1"/>
          <a:stretch/>
        </p:blipFill>
        <p:spPr>
          <a:xfrm>
            <a:off x="4648320" y="2351160"/>
            <a:ext cx="4194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АКУТНИ БО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 који траје 4 до 6 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текетивни механизам који омогућава живим бићима опстанак у потенцијал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асној околи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зрок бола се може санир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4" name="Picture 7" descr="pain1"/>
          <p:cNvPicPr/>
          <p:nvPr/>
        </p:nvPicPr>
        <p:blipFill>
          <a:blip r:embed="rId1"/>
          <a:stretch/>
        </p:blipFill>
        <p:spPr>
          <a:xfrm>
            <a:off x="4419720" y="1523880"/>
            <a:ext cx="44956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2971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КУТНИ БО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403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утни бол је симптом (знак) неког обољења, краткотрајан је и пролази излечењем или спонтаним престанком обољења које га изазива. Може бити први знак обољења потенцијално опасних по живо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утни бол је највећи човеков пријатељ, јер благовремено упозорава на оштећење ткива и покреће одбрамбене механиз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7" name="Picture 7" descr="260895_05mozak-foto-shutterstock_f"/>
          <p:cNvPicPr/>
          <p:nvPr/>
        </p:nvPicPr>
        <p:blipFill>
          <a:blip r:embed="rId1"/>
          <a:stretch/>
        </p:blipFill>
        <p:spPr>
          <a:xfrm>
            <a:off x="4343400" y="2133720"/>
            <a:ext cx="44956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ДА ТКИВА ДОВОДИ ДО</a:t>
            </a:r>
            <a:r>
              <a:rPr b="1" lang="sr-R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ЛОБАЂ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ЋЕЛИЈА – КАЛИЈУМА, СЕРОТОНИНА И ХИСТАМ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КРВНИХ СУДОВА – БРАДИКИН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ГОВОР ТКИВА - АКТИВАЦИЈА НОЦИЦЕПТОРА, ПРОМЕНЕ БОЈЕ ТКИВА И ЕД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РАДИКИНИН УСЛОВЉАВА ОТПУШТАЊЕ ПРОСТАГЛАНДИНА – ПОВЕЋАВАЈУ ОСЕТЉИВОСТ НОЦИЦЕПТОРА, ХИПЕРАЛГЕЗИЈУ И ПРОПУСТЉИВОСТ КРВНИХ СУД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РВНИ ИМПУЛСИ ИЗ АФЕРЕНТНИХ Н. ВЛАКАНА – ОСЛОБАЂАЊЕ СУПСТАНЦЕ П</a:t>
            </a:r>
            <a:r>
              <a:rPr b="1" lang="sr-R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НЕУРОГЕНА ИНФЛАМАЦИЈА</a:t>
            </a:r>
            <a:r>
              <a:rPr b="1" lang="sr-R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ПСТАНЦА П ДОВОДИ ДО ОТПУШТАЊА БРАДИКИНИНА И ХИСТАМ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ЕЋАВА СЕ РЕАКТИВНИ ОДГОВОР ТКИВА НА ПОВРЕ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УТНИ БОЛ КАРАКТЕРИШЕ – ОШТЕЋЕНО ТКИВО, САМ БОЛ И УЗНЕМИРЕНО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АКУТНИ БО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ХРОНИЧНИ Б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1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толошки бол који траје дуже од уобичајеног времена лечења повреде или лечења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остална болест са властитим симптомима, синдромима и компликаци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2% укупног човечанства (СЗО) пати од хроничног 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8" descr="15482560-brain-pain-in-black"/>
          <p:cNvPicPr/>
          <p:nvPr/>
        </p:nvPicPr>
        <p:blipFill>
          <a:blip r:embed="rId1"/>
          <a:stretch/>
        </p:blipFill>
        <p:spPr>
          <a:xfrm>
            <a:off x="4648320" y="1538280"/>
            <a:ext cx="4343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И Б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 бол траје месецима или годинама, нема одбрамбену улогу и ремети животне и радне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стично нарушава квалитет жив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ије симптом, већ самостално обољење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акутни бол највећи пријатељ, хронични бол је највећи човеков непријате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 бол – резултат интеракције више уз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ални завршеци нервних влакана у ткиву трпе хемијске и механичке пром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5" descr="hron"/>
          <p:cNvPicPr/>
          <p:nvPr/>
        </p:nvPicPr>
        <p:blipFill>
          <a:blip r:embed="rId1"/>
          <a:stretch/>
        </p:blipFill>
        <p:spPr>
          <a:xfrm>
            <a:off x="4724280" y="1971720"/>
            <a:ext cx="42674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49:47Z</dcterms:created>
  <dc:creator>muti</dc:creator>
  <dc:description/>
  <dc:language>en-US</dc:language>
  <cp:lastModifiedBy>DENIS</cp:lastModifiedBy>
  <dcterms:modified xsi:type="dcterms:W3CDTF">2014-02-11T08:54:3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